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6.gif" ContentType="image/gif"/>
  <Override PartName="/ppt/media/image4.gif" ContentType="image/gif"/>
  <Override PartName="/ppt/media/image22.wmf" ContentType="image/x-wmf"/>
  <Override PartName="/ppt/media/image5.wmf" ContentType="image/x-wmf"/>
  <Override PartName="/ppt/media/image21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4.gif" ContentType="image/gif"/>
  <Override PartName="/ppt/media/image1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30E-3BBC-4B78-B7CF-BFE908A3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F55-F4E6-478A-8B4D-2FD7B3A7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AFE-EDFE-4378-B3A0-7B962F36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310-FE6B-414F-92DA-AB46FE7E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C26-E7D3-462A-B2CF-B84EB72B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F7C-C6B8-4F27-B03A-872693CE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767-436E-4EC3-9134-7CDC53D4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6C2-B41A-4914-90AB-373645C9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F64-10F4-4994-AC2B-9586573D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3D3-353C-4B47-AD3C-5AF185E0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CE1-C0C0-4EF7-9FF8-641E55B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BC5-86D4-4F4F-A1C4-B91A88B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315B-E21E-44A1-B1C9-4C9E2015D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Movies/Chapter%2008A.mpg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en.wikipedia.org/wiki/Image:Impala_ram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ving for a Rainy Da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ose you earned extra money by having a part-time job. At first, you might be tempted to spend all of the money, but then you decide to open a bank accou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What are the benefits of having a bank accoun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What do you have to do if you need some of this mone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What might your body do when it has more energy than it needs to carry out its activit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What does your body do when it needs energ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1509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vs. ADP /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DP = adenosine d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2 phosph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s less potential energy than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MP = adenosine mon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1 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s less potential energy than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Both of the above are recyc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67080" y="1411200"/>
            <a:ext cx="48769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67080" y="304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62485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81952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Lose phosphate (break bond) = energy is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666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2743200"/>
            <a:ext cx="2057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Gain phosphate (form bond) = energy is 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7480" y="2120760"/>
            <a:ext cx="7961400" cy="321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30760" y="1776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1640" y="177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0920" y="28177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90920" y="34020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360" y="3502080"/>
            <a:ext cx="41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nosine diphosphate (ADP) + Phosph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50400" y="35020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nosine triphosphate (AT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5600" y="4243320"/>
            <a:ext cx="9136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4520" y="4243320"/>
            <a:ext cx="9136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23920"/>
            <a:ext cx="49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3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parison of ADP and ATP to a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aiandra GD"/>
              </a:rPr>
              <a:t>Endergonic / Exergon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Reactions either use energy or give of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Endergonic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reaction in which energy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Exergonic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reaction in which energy is given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345960"/>
            <a:ext cx="1752480" cy="1216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926400" y="380880"/>
            <a:ext cx="22176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Formati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is the difference between an autotroph and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terotro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fuel for life?  Why must i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into another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is ATP? What are its 3 main pa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is ATP used to store and release energ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What is the difference between an endergon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and an exergonic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020960" cy="1020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8017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aiandra GD"/>
              </a:rPr>
              <a:t>Chapter 8.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Energy and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Energy = the abil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x. light, heat, electricity, stored in bonds of chemical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ving things depend 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ven when sleeping, your cells use energy to build new proteins and amino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828800" y="4800600"/>
            <a:ext cx="2133720" cy="184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486400" y="4800600"/>
            <a:ext cx="1981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utotroph vs. Heterotro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utotroph 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 (auto = “self”, trophe = “foo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rganisms that make their ow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Plants and some other organisms use light energy from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eterotroph 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(hetero = “other”, trophe = “foo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btain energy from the foods that they con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Eat autotrophs or other heterotro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467480" y="1336680"/>
            <a:ext cx="1101960" cy="105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4730760"/>
            <a:ext cx="11811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81944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Impala ram from the Kruger National Park, South Africa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2438280"/>
            <a:ext cx="3175200" cy="212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600200"/>
            <a:ext cx="2057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Grass gets energ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209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600200"/>
            <a:ext cx="2819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he impala gets energy from eating the gr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1219320"/>
            <a:ext cx="2057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he leopard gets energy from eating the imp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5257800"/>
            <a:ext cx="792468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Maiandra GD"/>
              </a:rPr>
              <a:t>Which are autotrophs and which are heterotrophs? Explain w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-grass = autotroph (makes its own food)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-impala and leopard = heterotrophs (get energy from foods they consu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ake a list of 15 different org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lassify each organism as an autotroph or a heterotro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572000"/>
            <a:ext cx="7696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Were any of the types of organisms difficult to classify?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1063800" cy="172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05840" y="268200"/>
            <a:ext cx="13525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Fuel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Glucose is called the fue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onosaccha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Contains too much energy for cells to use all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ust convert this large amount of energy into a usabl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Like getting change for a vend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676600" cy="2810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129852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13431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T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Adenosine 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hemical compound that cells use to store and releas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Basic energy source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3 main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Ribose (su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3 phosph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95680" y="4191120"/>
            <a:ext cx="4191120" cy="159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568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5053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3 Phosphat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he energy that ATP carries is found in the bonds between the phosp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Energy is released when these bonds are broken; energy is stored when these bonds ar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3301920"/>
            <a:ext cx="53341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8:38:21Z</dcterms:created>
  <dc:creator>bpalme</dc:creator>
  <dc:description/>
  <dc:language>en-US</dc:language>
  <cp:lastModifiedBy>udsd</cp:lastModifiedBy>
  <dcterms:modified xsi:type="dcterms:W3CDTF">2009-01-06T12:49:13Z</dcterms:modified>
  <cp:revision>13</cp:revision>
  <dc:subject/>
  <dc:title>Slide 1</dc:title>
</cp:coreProperties>
</file>